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DFF7-D673-443B-877C-4511FA199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BE9E-DFAB-4877-83BA-42074A90A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C80-58F1-4FE0-868D-6D5D00CE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FBD-83C6-45B6-8183-6F97352E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C2B-79BD-4293-B627-0E19CCC9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69E2-C715-435F-9D64-1D257689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749-0300-4CED-9D59-20D83DE6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2905-6F48-4A90-A3DF-CA4EC2A8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972-D116-4521-B48D-3D8A7A1F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086-696B-40CD-A096-D79E600B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A3B-B4D3-40A5-982A-DB2D9DC2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361-0250-4638-A0CE-5AD6521F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260-75E4-49BF-ABDC-8CF89DE6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DDB-3D1E-427B-938F-076D2F65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4DE1-F9F0-4654-B83A-871080426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ewspaper2"/>
          <p:cNvPicPr/>
          <p:nvPr/>
        </p:nvPicPr>
        <p:blipFill>
          <a:blip r:embed="rId1"/>
          <a:stretch/>
        </p:blipFill>
        <p:spPr>
          <a:xfrm>
            <a:off x="-380880" y="-276120"/>
            <a:ext cx="9650160" cy="7219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676520" y="1752480"/>
            <a:ext cx="63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WHAT IS CRAWLING IN YOUR BLOODSTREA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22640" y="950760"/>
            <a:ext cx="49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Castellar"/>
                <a:ea typeface="ＭＳ Ｐゴシック"/>
              </a:rPr>
              <a:t>Science n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09480" y="2057400"/>
            <a:ext cx="846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HUMAN CIRCULATORY SYST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733920" y="2743200"/>
            <a:ext cx="297180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The body’s transportation system includes the following parts</a:t>
            </a:r>
            <a:r>
              <a:rPr b="0" lang="en-US" sz="18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: </a:t>
            </a:r>
            <a:r>
              <a:rPr b="0" lang="en-US" sz="14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Heart, lungs, veins, arteries, capillaries, and blo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Do you know what is in your blood</a:t>
            </a:r>
            <a:r>
              <a:rPr b="1" lang="en-US" sz="18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?  </a:t>
            </a:r>
            <a:r>
              <a:rPr b="0" lang="en-US" sz="14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Red cells, white cells, platelets.   There are vitamins, oxygen, and carbon dioxide in your blo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705720" y="2666880"/>
            <a:ext cx="2133360" cy="43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Interesting Facts: </a:t>
            </a:r>
            <a:r>
              <a:rPr b="1" lang="en-US" sz="14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Humans have 10 pints of blood in their body.  That is 7% of the body weig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The blood helps us keep warm, cool, fight infections, and helps get rid of waste from our body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Your heart started pumping before you were bor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“</a:t>
            </a:r>
            <a:r>
              <a:rPr b="1" lang="en-US" sz="14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If all the blood vessels were laid end-to-end, they would stretch around the Earth more than twice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086600" y="1828800"/>
            <a:ext cx="16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Grade 5 Room 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null"/>
          <p:cNvPicPr/>
          <p:nvPr/>
        </p:nvPicPr>
        <p:blipFill>
          <a:blip r:embed="rId2"/>
          <a:stretch/>
        </p:blipFill>
        <p:spPr>
          <a:xfrm>
            <a:off x="5638680" y="5029200"/>
            <a:ext cx="95904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http://3.bp.blogspot.com/_voA4LI_mxzE/R4kNyXOq3xI/AAAAAAAAAG4/UBTBQV8BXPA/s320/circulatory+system.gif"/>
          <p:cNvPicPr/>
          <p:nvPr/>
        </p:nvPicPr>
        <p:blipFill>
          <a:blip r:embed="rId3"/>
          <a:stretch/>
        </p:blipFill>
        <p:spPr>
          <a:xfrm>
            <a:off x="380880" y="2819520"/>
            <a:ext cx="3260880" cy="403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http://repairstemcell.files.wordpress.com/2009/02/normal-resting-heart-rate.jpg"/>
          <p:cNvPicPr/>
          <p:nvPr/>
        </p:nvPicPr>
        <p:blipFill>
          <a:blip r:embed="rId4"/>
          <a:stretch/>
        </p:blipFill>
        <p:spPr>
          <a:xfrm>
            <a:off x="3657600" y="4952880"/>
            <a:ext cx="1865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2:08:06Z</dcterms:created>
  <dc:creator>Wright</dc:creator>
  <dc:description/>
  <dc:language>en-US</dc:language>
  <cp:lastModifiedBy>LOURDES</cp:lastModifiedBy>
  <dcterms:modified xsi:type="dcterms:W3CDTF">2010-01-05T04:02:19Z</dcterms:modified>
  <cp:revision>11</cp:revision>
  <dc:subject/>
  <dc:title>Slide 1</dc:title>
</cp:coreProperties>
</file>